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963600" y="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77920" y="694800"/>
            <a:ext cx="4641840" cy="348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96360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38E0-AE2C-4A7B-BDE4-83E158F18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3261-D5F4-4AC4-918D-7DC1A910C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5F7-73FC-432C-84A3-699828AE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5904-C36B-462A-BA77-FFDAD036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EDF2-1F2A-4122-9FCC-8C6C5B9E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ED3F-CE06-48EA-AC72-5A57BC34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747C-813B-4ACE-8169-5B7755B9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2F99-8833-4A36-9FC5-B2BA71B2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A8EA-86E1-4ADA-A5EB-9DE28B09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80F5-068E-45C7-9F37-9AA33C89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C2B2-C46A-401B-B996-088E9AF4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943D-C5AB-4944-9680-1D20AF6E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6BDF-0A9D-4AEE-8FB0-B7374E4B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A55A-A8D7-4415-82D1-67FE1B70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8C5C-63D2-4791-8AB0-50DCC5CF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4EB2-4310-4534-ABFC-47A17DCD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B3B6-AC53-4BB4-954E-4F4E9B99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B76F-751F-4094-ABBE-01846FA1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73C4-8B7E-446C-BC5D-A479E50C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10DA0-3F79-4679-A070-AEB4CF46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38468-661E-4A78-931D-BB576CD9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CC75E-91C1-483B-9F62-D9982D69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40267-1C6E-42D0-8EBF-BE074DE8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96B63-4620-4695-8858-D7D4347A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D88-64C7-44B3-B07A-BDCBFEF7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97F84-00BA-4BC0-866E-8B73AE17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85D4C-AC85-4184-A1F8-F4253C3B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AC6A9-1A0A-48A5-BCE6-5C6737D6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6CD8D-5056-40B7-B5E2-9CE3044F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4C198-D086-4FD7-B679-BCB313FE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33C67-DA07-4BB1-9698-2E857630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7EDAE-7FB6-415C-8C95-E45B3857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1B957-58B3-4DC3-A971-B5E34326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AEFF8-1EE6-4514-85FC-C4CD34C9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578BB-AA8F-4313-8518-C041C46A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8C17-49B0-4443-85E9-09A87CDE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DF012-77D1-4F87-9D04-0DCDF724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C2FA4-6F40-4527-A962-56B53823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B4661-6966-4107-98CF-A3BEA788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07727-908D-4260-8FE5-25DE5045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E5E41-280C-4436-BE4F-930113B1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1275E-79E0-400D-89ED-4A6F7CC4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2F3D9-1D65-4C0D-8C74-194313B2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595AE-920C-4D37-AF45-4EEA981E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B0972-BF83-486B-82DD-90F734D2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47EB2-6A4A-4C34-9F92-6E58F1D4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8AA9-82E4-46D0-8C9E-EA5AD43D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ABBFE-003D-4BDD-BB6A-36E47605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D46F1-8C64-4D56-8CBD-C03E5004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69281-E41E-4B54-9928-F953D9E5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9416C-1C3D-4744-A497-29E73541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5ABD1-2540-46CD-9A49-83B258B8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125E8-8ACA-4F52-A560-CEA18163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F87B8-2A54-405E-B989-27EC5EE8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72687-603E-4950-8B59-05A96ED9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E7283-A43A-454E-AF0B-10B9DFC8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D3B82-561B-444F-A221-B6362B32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146E-8F95-4AE3-80A7-EDCF0F7E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F3BA2-EE94-4E11-8708-8719558F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51E32-73C8-4B0A-A0B7-8E12E765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048E6-8460-4A4D-B68F-2825056A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991A8-4EC2-4205-8D4C-EDC33A78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06FFD-0253-4C44-9CF7-B460193E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C09DA-28B4-4C9F-AC7E-5B47DE8E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0FF60-48ED-4FCF-ABB1-814EBE6A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C7480-EA90-49D8-9390-B03ADFED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23E80-5EB1-4304-B2C0-35127D38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7348A-30D8-4849-B56C-5DF5BE60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3F1C-8CDE-4C06-94CC-EB55A965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11C20-290E-464C-93F6-34BBD230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D11A2-AA49-49FE-9614-89232DA7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108DB-4207-4506-BE87-83A885CC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C388D-1512-4DEB-8BEC-992557AB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55D28-9E20-406E-B621-763E54C1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4082E-940D-4BDF-ABC9-75F7039B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4779E-30E9-4A3C-A0B7-F4845232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AC580-432D-4837-93D5-FA5A5252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C9B2B-5F96-47F5-9BC6-7B928272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AE99B-7804-44D4-AA23-23BD7E51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0A04-1D10-49D9-9DBB-3C2FD3F7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2DD91-DA98-4A29-B989-7CC66ABE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ADB15-D544-449E-99AE-55A76596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732A7-C026-48C8-8920-611B68ED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69FB6-23F3-4A5A-8A76-93F3C29A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9174A-CB9C-4C18-A0E7-A559EB1A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8C729-8726-4052-9277-3188AA80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86D8B-37A7-4504-B59A-46904694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179D3-195F-4CF9-8354-B7E24456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8061F-4319-4DE8-B206-42521D39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2D68A-2DE2-44BF-A0B0-EDCA925A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704B-4C14-4DB7-AF93-4E2AF54E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29500-EA8A-4503-9394-04E7E3C2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B9981-95F9-4C19-A1E2-64E19A5F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4F4FC-27A7-4B65-A110-BDEB0B5A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82647-691B-4414-B585-B8C88670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5052C-378D-40F2-BFDF-B4D30269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236FA-A874-4779-A141-BE970427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C06E3-7E31-4879-8692-4247BC34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4E98-6BAA-4D62-9ABF-21FF4C42D2A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6339-CB21-4BF0-8029-E368B066EE9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14C9-5F1B-4974-814E-99758C4419E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244D-1BB3-4FAF-BA1D-74EF1638949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CE9A-20B5-46C1-A03B-740B625A652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FBF5-B4D0-4F92-8619-8005A3DF1FC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B467-0444-4B95-9398-CAF92B7BE2C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EEC9-6D39-4903-8D78-074E118094D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eV62zrm2P0" TargetMode="External"/><Relationship Id="rId2" Type="http://schemas.openxmlformats.org/officeDocument/2006/relationships/hyperlink" Target="http://www.youtube.com/watch?v=4jtmOZaIvS0&amp;feature=related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43520" cy="25146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"/>
          <p:cNvPicPr/>
          <p:nvPr/>
        </p:nvPicPr>
        <p:blipFill>
          <a:blip r:embed="rId3"/>
          <a:stretch/>
        </p:blipFill>
        <p:spPr>
          <a:xfrm>
            <a:off x="5867280" y="3524400"/>
            <a:ext cx="24955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uninterrupted addition of nucleotides on is called the leading strand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ever, there is strand on the opposite si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st be added in the 5’-&gt;3’ direction, which is the opposite direction of what is supposed to happ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 this case, the primase has to move upstream and make another prim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pol III then adds DNA nucleotides until it reaches the first prim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partial region is called an Okazaki frag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pol I then replaces the RNA primer with DNA nucleoti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individual strands are linked by ligase (think of it as a gluing enzym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DNA Repl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DNA Replication Mod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7692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573408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any errors are made, it is corrected by DNA pol I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the replication process takes places at the end of DNA, the primer will be removed, but not replaced when going from the 5’ -&gt; 3’ dir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means the daughter strand is going to have a strand with a missing seg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undreds of the hexanucleotide repeats will be slowly eaten up division after divi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27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ter releasing their paper on the structure of DNA, they released a followup paper on repl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it, they stated that each chain of the DNA would serve as a template for copying, yielding two identical molecu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rough their idea, each daughter stand would contain a chain of the origin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the semiconservative mod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ever, other models had to be ruled ou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a conservative model, the new strand of DNA contains no chain from the par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 this, one is entirely new, other is entirely the origina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hird possibility is the dispersive mod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ere, each strand contains part of the original and the copy on each chai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78168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experiment at Cal Tech was performed to ensure the semiconservative model was corre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culture of bacteria was grown in a medium containing 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15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, then transferred into a medium containing only 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1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amples of DNA were then extracted and centrifug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85800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rts at a sequence of nucleotides called origins of repl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ength and location var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teins attach to this sequence and open the DNA, forming a bubb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lication proceeds in both dire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-shaped region at either end of bubble is called replication fo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 fork, helicase unwinds DNA by breaking the hydrogen bo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head of the site, topoisomerase breaks and swivels strands, relieving stra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strands are separated, single strand binding proteins (SSBPs) bind to regions of unpaired DNA, stabilizing 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imase enzyme moves in and base-pairs a short (5-10) nucleotide region of R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is is called the prim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polymerase III (DNA pol III) adds nucleotides to existing chain in the 5’-&gt;3’ direction (attaches new nucleotides to 3’ en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18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54:39Z</dcterms:created>
  <dc:creator>ED18</dc:creator>
  <dc:description/>
  <dc:language>en-US</dc:language>
  <cp:lastModifiedBy>ED18</cp:lastModifiedBy>
  <dcterms:modified xsi:type="dcterms:W3CDTF">2012-02-24T20:23:35Z</dcterms:modified>
  <cp:revision>24</cp:revision>
  <dc:subject/>
  <dc:title>DNA Replication</dc:title>
</cp:coreProperties>
</file>